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F1A-71CF-4EED-9B6B-DF8D85F1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DCB-FF92-463B-8C98-807869BF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E6198-25FA-47DF-9D92-BB119645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8DF85-C7DB-43F1-9CC2-6ED2226C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6C8A7-51E4-49A2-9408-3F120A3B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9F11D-21D7-4C79-BCA8-F239B2FE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C2EF2-43F7-479C-83C6-B718BC71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AD9D1-A9D7-44A6-A7F2-3CF67A3D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DE62C-C86F-4739-811A-9E253758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97FE9-9042-489D-8541-F850416E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A9155-A50B-46F1-900E-B3DE8070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4E295-4C83-4760-B006-0E2C13BA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D88-08EF-4652-A553-CB7B79D2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F1470-063A-43D4-82B5-566476EF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8519A-ED95-4C60-9FB3-E36FF16B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B6060-D1D8-4BC8-A814-B519A2A2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695B6-741C-4AF7-8137-7EF5459A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03C8F-A3DA-43C4-B560-81BBC09F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CAF91-E8D0-4CCB-9EBA-2D6452FF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645E9-4D6C-40C3-AE67-0730D9A9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32BFA-CABA-442F-BCFB-14A0E3A1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24612-3911-4B0E-B1E1-9652FA15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9A841-39EB-43E5-8FE8-89836B18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8DD-07D9-4797-9C10-3ED8FC5C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3E8A1-DA77-49A8-A70B-79623619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98101-2352-4346-BC18-8BD7E433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5B93F-9CDC-444A-B607-A4D94B6B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85540-9ED0-4B0E-9243-B3415BA9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7A44E-4AAE-4D29-8443-C7504798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14E34-77C7-4347-93D3-A03C9F85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F3B35-8658-43FF-AFE3-15D8D1D7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8B302-49FA-40A3-8686-8D044D95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B691D-BBBD-4491-9796-B4F318E8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E3B92-7822-4B0D-ABCB-E76E40CE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675A-D03B-48F1-BC89-7D526F81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C969E-D293-42D5-BFF6-C9CDA2E8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FACFF-80F2-4681-AEFF-04C39D6A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03D21-6BE5-4C31-B02B-7919050D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48BE6-FD67-4028-B290-29A280FB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A29DC-BCB3-4B6D-A45B-E982B7D2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53992-F843-4085-9E82-10B2D7AA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C23A4-E661-4AE2-B6D3-A9F6A5C0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298BD-A563-48B3-8DA0-4F76B803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07F9D-DC4A-4080-9FEE-EDD38434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A70FC-F230-4AAF-9927-2FFE1686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8AD5-E351-451D-826F-40C510F3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6304B-6E45-476B-892B-E6291C62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22CEF-4825-414B-8AC2-A99B66E8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DEE12-228F-4E55-A8EE-B8A0F6FD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5F006-9767-4357-B659-AF642201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92AC9-6E4D-4DAB-98CE-736AB97C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2C172-541D-427D-B2BF-AD0B7C70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1904B-1A67-49B2-95C5-ECA9DD05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5998F-97D3-4239-9BB5-7C8BF757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DCC7F-5569-44C1-9E6D-E86632F3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4D3E0-0F00-4A43-A4CA-0FCF5B2D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2FC0-EE36-44BE-ABE6-8BEC5112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C2681-127E-459E-B1D6-87AA4CEA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F96AD-9DF2-4C5B-BC49-A1A67A25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7D87F-9824-436D-A323-4D19E851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23181-D752-4F2E-9041-03EB37A1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0AD4A-62D2-4AA7-9C94-DDC708D7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17328-51A8-45F7-BC5F-1D72D058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BF27F-1C99-4C2A-926A-952459A4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54A42-EE65-4D67-84C0-EEED05A8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AE59E-E1E9-485A-88C0-28F3798F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B85AD-F200-47B7-A4A2-C58D4CD5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57D9-2DB7-4C23-B362-36E8DA41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674782-2E61-46F0-962F-E362E027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99BF36-CDBD-4E32-8D71-9B0C4615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C182E-1DCB-4512-A58E-CCD45B98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2D495-D950-421C-BD79-30399D2D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F5764-D491-4B2B-A1ED-F1CCC845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FB6492-142E-4BAD-93B7-DB27B13C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40FED-09A1-4A94-91A6-5A294DDA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A6076F-B049-416E-8A1B-F2062C30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D1DD59-C626-4A54-91B9-7D898574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8D0353-2C97-4A1D-A25F-383A1A97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EB7C-52CA-4390-A798-2E22926F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676A39-928C-43D5-A127-4D1AA248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2DB0FC-EFEC-40AF-9E48-2F8A8AF0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6F456B-0205-4C0D-AEE2-934BDF48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5F0603-AE55-4837-AF80-46E3601E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99EC7-815A-4DAA-BB6B-6F5D6783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95599-D0B8-49DB-BFEB-BC0073B5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CF3C9F-078E-4F85-814D-9F36EAF5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1E924F-6EC9-4695-8936-A3939852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581565-7F44-4840-9DDF-6882A648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BC7B5A-571A-4D70-BD8D-1346FB0E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B4AF-E653-4958-8006-3CEB075D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51736-6C10-4F2A-A114-4C479AA1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B28478-3A8F-4D4E-9399-D50CEC97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C5F72C-E8B6-4492-BEE7-378F2DB1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9D78EB-1151-4791-A1B1-7B8204AB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94F167-1436-4C08-AE38-F55F4E99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DD4651-3AEE-4637-BDFB-5E73193F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53F028-0DD0-4CE6-BFA8-5294D360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A7E0A1-DAA4-4044-8E87-2553B791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40763C-606E-4A6F-92AC-483FCB3A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3D21C-51B3-40A0-B3AF-240E8379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8EDC-4AEB-47DE-9052-C67AE109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DE21A-4025-4002-8B3A-B40ADD3A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27F2B4-0B29-4F8E-B2CA-A75E05E6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E80755-9D2F-4BDE-B84E-74685F15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C4D0B8-3D95-4E31-9349-808781B5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EF189B-7866-4EC7-99D8-44F893EF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5C3551-B748-489B-9CB3-3AB90BEA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688D7-F8B6-40F1-A590-4FFE3708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8AFCFA-6F69-4175-AD17-73FDABF4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348685-D570-4FF9-AEA8-85BAF2CF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4A4008-3934-4DEA-9ADB-0C058792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1EB-69C6-40E5-9D6F-7278B99D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5002-297C-43AD-9456-6ED05DEB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E65A51-F262-41A6-8179-9D546F26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039E09-AF12-4C82-957F-8D8C9374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AC9C6-A1DF-446B-B958-F4FCB0C8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35607A-D9C5-4852-9F4E-A80416D8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53EEFC-03AD-418A-82D6-0C5A3787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EABBCE-BD9E-449E-877D-1F43C220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F3E85F-CC9C-496D-98F0-1E2A166F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5DEE12-459C-474B-8229-65B7DB82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791E3C-82F5-4DE3-859B-A2926002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BFC797-CEB7-41F9-8ED5-D2AAFFE1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5CAC-8F4C-4E79-9865-DF853072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1DECDA-3135-4EDE-B114-B42218B1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59D3E8-0D00-44D4-B3E9-73AD0622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D391FB-64E5-49E5-8A3C-826CC579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5DA22D-BB5B-44A1-BE11-9D7B5DDF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322681-D6F2-4E39-AC33-782B5541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BE6692-26AD-45EE-9DCE-4BF7E877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62F2ED-E8EE-4E8C-B113-E00DB2FA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5882F8-EFE2-485B-9971-A9BE7105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55FC60-FEA4-4FDC-B569-00AA6A80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15EC88-0CF3-404B-9904-CE4BFA61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6BDE-FD21-4BF5-94E8-DBD16635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D852E5-F4AB-45CD-A7CD-9CB1D8F7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0B357E-618B-42C8-8B5B-BEB16727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EA8E1E-2DCB-4CCF-8F1C-6DE69B4A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CCF722-3617-422F-9AD6-B1C1D3E7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3A07E3-2A72-4CE8-A2A9-578C430F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77BFBA-638E-4BE3-BFCD-46B9E501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364CA4-6433-424C-B735-CC246C17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B56E8A-A140-41D4-8E0D-DEAE0605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0647F0-F88C-44E1-BDB2-6FF77960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A441AA-D45D-4024-AAEF-44D03520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31AD-00C1-4D53-8508-4A23037C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38F711-54C8-4036-8DD4-32017E6F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4DE0C4-FD96-409A-BA27-4EF1A020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E7E7A1-7DD4-4FEC-A48A-64584C58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BCBB31-A516-417E-A1B0-7C9FE70F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624AF2-CDA3-41D4-B7D5-A6D01B75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07C5D5-7D3B-4B65-B00C-3D1CE2A5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06740E-A2E5-40ED-919D-32C7B296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F3D843-3662-4127-9F95-D0BA4B6C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A8B3AC-CD14-40B3-AB08-367022A6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3BD0F1-1BC3-42A2-9C51-ED82AA65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8F29-D335-469A-9FE9-63D8FA51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81066E-55F5-4029-8426-129368E5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0E8E93-CBB9-4B10-9F2F-8B13DF2D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CEEB63-25C7-430F-8264-B0EF040A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4DF55C-DB64-4BF5-9CB2-50F38364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CFE9A0-8ECA-4E28-81A6-F2C5F6AD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197EC8-C03D-4D13-B197-023093D9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7843B2-3589-4513-8028-AAD76F43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BC46D5-30AA-4191-9A04-C736A52F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EDFA9C-3760-4C2A-B261-9ADF85CA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1560DB-2E60-4284-A585-D65B914D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4244A-402A-4F0D-9355-6D90CF35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612966-37D9-4A86-A532-284F0C88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DF56B4-384E-4AEF-B2DD-37BA3CCE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C37EE0-E924-4D43-B8A8-38B93035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0616E-783D-482A-AEDD-980E5BA1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A4B32-DF88-46E8-8B8B-9C0CC5E2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F42C1-212B-4E29-93F5-0F60FD92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72022-BFED-48C1-B15B-C6D2251F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AD9-E997-441A-9A31-C5810A92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BC452-ECB8-4298-8E99-BF4BB484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34B9D-EC5F-440A-9164-C62B042E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BC7E-3A0B-43D7-B17C-DFCDBA00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77B45-A750-402F-8944-433F3C43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9C49F-81F5-49C1-A5B1-020EDA6D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251BE-67FF-4F02-9FF9-A5993CF5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AAAA7-0A51-4AE9-9A80-883C9C71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C79ED-10B9-4556-BFFB-13949C6D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8B442-87F0-42F8-9143-E66F4BBE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D6150-C9F9-44A7-AD98-D9D71D71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F177-3D89-4AD9-938C-D2370835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4ABD6-1C7E-4F68-BD18-FC7113B5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6BBF8-5B08-479F-A19E-2CF60218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6BB40-4D00-40FC-ADBB-A2562CF0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DDA5C-00D8-4F81-AA4D-D629C90A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995A3-C9BE-4E08-B2E5-A795ED22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B66F7-53DB-4A81-A215-FB51D6B2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6FA3D-9781-4515-8774-25A50787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68528-68BD-4095-B590-7C8542AD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9F1A9-4C8B-4A95-951A-5FDD1C75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F5BFE-0E8E-4DAE-B050-E20D55EC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E187-A89F-4ED2-9A30-C802FFD7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FA810-CAF2-443A-8C27-55B5B279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945BD-C9E8-45A4-8834-BBD92F7C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E30E4-721A-48AA-8BA3-FB3C8115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EF2ED-4B85-425F-88BE-19828521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235DA-E318-4B8A-AC5E-F4EA11A0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2E3CA-DC7A-4485-A1E1-AC60BB1A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6EC45-D67B-4EAC-BF06-424F608A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13731-1DB0-430D-9B78-4A88CFD4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19CB6-B3D7-4F1A-B300-BCA01C09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DE508-C9F2-4CE1-B5CC-573344F0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F80-F7AD-45C8-BA2B-2F970DDF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26E79-D8FF-47F1-B941-27ACB2DD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AC255-624A-4712-8857-8095D1CE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B8565-752D-46B9-B4B1-0C6CB261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11556-B533-4980-ABEA-EA15B792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304E8-C2C3-439E-8F4A-0E234186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991C4-AB0E-41A6-AD6B-1945E66B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19FE1-55B1-4F4F-B910-EADDDC35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BDC19-1EB0-433C-985F-82ACEB7B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3F988-E531-4EC0-B71C-7E09A835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E6A01-B2F2-442E-B7B6-FFFA70B7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3FC-34E8-4BA2-8603-F41F5117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1D5F1-1024-4203-833E-8EB6DFE2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5787D-2D1B-4537-B067-F8C467BE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4B9D3-944C-4184-B3AC-C197AA45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6A76D-B029-4AB5-9099-1F435DBD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B4099-637B-49FB-A0CA-F007D611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E3379-5166-48A9-86EA-9DF58296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07A2E-52D3-44BF-B628-64EC6CCD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5EBDA-78FD-4AA4-8847-99476A96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76673-A4F7-4AC1-AF7C-F9000CFC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7A800-9CE7-4DBB-93F5-39CF1019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89E3-9CFE-4FD1-B5C7-0396655E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127A1-5D61-497F-BAF7-FD17999F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DB5B6-DFE3-4195-8A8E-8867C8CF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F5670-EB0F-4FA1-B5DB-6A9FCE68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48307-0EB5-4C42-B8D8-D0CD927D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03DEC-5327-4BE3-87AE-E2DF3CC0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2379B-2601-4DE8-9B65-200A758E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5128E-1615-400A-B58E-DE65ED0D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5D5CB-9CC0-472B-9523-029C6E4B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3A501-1F74-401D-ABA3-8D992646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B8C7F-F050-40C7-8F1F-21E5780E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CE2-9A49-4C40-A7BF-FD240D26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700FD-FE4E-4EA7-AE40-E661F7CE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54EAA-73AB-4CEC-8DA9-5A7937EE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BEA0D-D4A7-4937-96D3-AD17A8CC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3EB1C-69E8-44FE-B232-52A13105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C4133-FDF5-4E0C-BC86-83456389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41C75-A1DB-484B-BE8E-9985C9ED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12D1B-2119-45C5-9593-6731D3BC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B7871-28EF-4DAC-B22B-6ACF2957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A523B-16EB-44E1-A555-22A364FC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F67A1-CD93-4DC5-B91F-02BB4969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7E83-E4A8-47CD-9E8B-4BE5CEDE6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27C7-351A-45F2-8F28-5D59CDFB6E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112E-8ECB-4569-A78C-5399D7585C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D417-0410-4D85-818A-1074CEA367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1E47-7078-4953-ABEB-6CBD8BB91B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00DE-3382-497C-8EE1-8FD08953E1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303B-2168-42D2-828A-0FD5112719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4914-0978-409A-870D-5CEFBC2BB9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B501-4306-455B-B081-05AAD0987B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F718-CFAB-4DB0-BF97-6E287278CA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D351-A3A8-4A58-B630-529026CD0F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F111-B2FD-4DC1-98EF-C4A4CBED82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E938-2225-42A3-A162-73453C7B20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30CC-95A0-4B05-AE01-9BB8A3B8EC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D7D0-6586-481C-899A-A59B0986C8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2B62-FA3E-43F8-B73D-383247F33C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862A-15CC-4045-8CBB-184EAE0B94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E0B3-9178-4548-B218-C09561EA7E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B9BA-C735-4F73-8794-96CFD6FAD3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2B10-8EBA-4966-AD60-BA0573D209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7729-B5A4-434D-9852-012249F261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D034-E04D-4811-B49A-E164111CD6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E780-B24F-4D0F-9A87-AD727E3A7F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4A6D-86B1-4E9F-8914-395556F6EE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C0A7-E434-44F3-A5AB-BA3D386F2D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360A-CB31-414A-8C20-9A92F7EEF6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170B-BB74-46F5-8EC2-53B201168F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60D3-19C6-48F3-BA5E-FA54BCE8B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317C-668B-42C1-98A4-031DE21D18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78B8-F138-47AF-90D0-F185A04AF6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B00E-D70B-4E69-B4E1-2EBADD4A1B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2F3E-AB62-4C3C-8F74-5D08CDC054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1252-56F1-4D64-AFF8-069DF02035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F1DF-A493-4D81-8F69-6F68267F88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A20D-6F08-4E72-A1B2-62D76C7414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7F94-5865-4FF1-962A-055532B074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2EBE-D585-42D9-8D02-F65EA1CB4E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8D7D-8C4B-4FEF-86FD-A6D89575AB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7364-0266-4D3F-AF0E-3133D06C58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B180-B50E-4355-B9B1-E53A37D919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071720" y="2189160"/>
            <a:ext cx="7000560" cy="60012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3181320" y="3527280"/>
            <a:ext cx="278136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114480" y="1000080"/>
            <a:ext cx="8915400" cy="485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116000" y="162864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187280" y="2708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116000" y="3789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1116000" y="48690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295200" y="2090880"/>
            <a:ext cx="8553600" cy="26762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332000" y="2708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332000" y="3284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403280" y="3789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1360440" y="429264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128520" y="1295280"/>
            <a:ext cx="8885160" cy="42674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1071720" y="1916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1116000" y="35146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571680" y="2652840"/>
            <a:ext cx="8001000" cy="15523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884160" y="270828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图片 1" descr=""/>
          <p:cNvPicPr/>
          <p:nvPr/>
        </p:nvPicPr>
        <p:blipFill>
          <a:blip r:embed="rId1"/>
          <a:stretch/>
        </p:blipFill>
        <p:spPr>
          <a:xfrm>
            <a:off x="95400" y="1724040"/>
            <a:ext cx="8953200" cy="3409920"/>
          </a:xfrm>
          <a:prstGeom prst="rect">
            <a:avLst/>
          </a:prstGeom>
          <a:ln w="0">
            <a:noFill/>
          </a:ln>
        </p:spPr>
      </p:pic>
      <p:pic>
        <p:nvPicPr>
          <p:cNvPr id="1053" name="图片 8194" descr=""/>
          <p:cNvPicPr/>
          <p:nvPr/>
        </p:nvPicPr>
        <p:blipFill>
          <a:blip r:embed="rId2"/>
          <a:stretch/>
        </p:blipFill>
        <p:spPr>
          <a:xfrm>
            <a:off x="4500720" y="3971880"/>
            <a:ext cx="2447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5:2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